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BBF5-A5E4-42DA-A5CC-0C3A21A80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55DD-47C2-4B2E-BC7D-E400B6E78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4BEB-4CAA-4B54-9AE3-041BDC088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7F62-141F-4836-BA90-11161EEFF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3F47-33C1-4369-B592-61CF97C4E0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CDDF-D93A-4537-B873-4A58254910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6B42-4655-4154-94F3-F5051F55A3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B06E2-E5D4-49F6-AFF7-DD85D9DE7F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DAF6-D85B-49A7-90B8-EE6C9BDB46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88A8-834E-4A88-B8DD-A88120D0D2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AEA0-C49C-4230-8E35-EBC2B74FA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1038-1BDC-45F6-95D5-1DAE707F8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D741-1E47-4D4B-B9BF-B7943B6363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9959-D05D-4EFA-B008-DBEA36267A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8B01-BC29-497B-9196-7695AF27AC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E75F-1231-453E-A14A-ACDC4E4015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BD78-BE07-4F6F-8180-EC7C4B3BA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60FF-EF11-4CBD-AFA1-88A99A1D9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EC57-F50D-4891-8BB2-EA73319C1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B392-D4B0-402C-9D62-610D177FB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4731-9335-4D29-9B25-72C402E83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8123-CA27-437E-A9B3-F17308940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FA2D-9D1E-411C-8575-6B11D165D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12B5-8296-4397-9758-7A47F2D32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85B-7209-4017-A094-2C322C636FE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96A5-EF33-409F-AEDF-F06956C7E15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7018-399D-4C3C-A35F-CC1623706A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U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컬러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V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흑백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V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호환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 = 0.213R + 0.715G  + 0.072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’ = 0.299R + 0.587G + 0.114B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U = 0.492 (B - Y')   V = 0.877 (R - Y')  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디지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’CbC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b = (B - Y')/1.772 + 0.5    Cr= (R - Y')/ 0.402 + 0.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NTSC TV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표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는 주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청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Orange –Blue), Q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는 자주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녹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urple-Green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, I, Q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순서대로 민감도가 낮아짐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48006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32A9-3EAE-4E43-B2FC-8BE7DF0F44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팔레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960720" cy="2962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24008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170C-8CED-4991-9F7C-526239D69C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컬러 인덱스 모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유사한 토운의 표현에 유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NG, BMP, TGA, TIF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일 내부에 팔레트 정보를 포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63640" y="2060640"/>
            <a:ext cx="5183280" cy="217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763640" y="4365720"/>
            <a:ext cx="5256360" cy="22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E287-298F-409A-9927-1EAEF144C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하프 토우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우리 눈의 종합적 인식능력을 이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쇄물의 하프토우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흑백이지만 회색처럼 보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면 화소에는 이것이 불가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66708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56C8-BB5B-4986-A07D-5354C2DA9E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디지털 하프 토우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점의 크기 대신 개수를 조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우리 눈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개의 화소를 한 단위 평균적 밝기를 인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실질적 해상도는 감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6572160" cy="158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41480" y="4149720"/>
            <a:ext cx="2087640" cy="185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201840" y="4149720"/>
            <a:ext cx="2087640" cy="185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62560" y="4149720"/>
            <a:ext cx="2103480" cy="186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523280" y="5157720"/>
            <a:ext cx="93636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A9B7-65D8-4A5C-A411-F608A39488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하프 토우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하프토운 행렬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줄 무늬에 유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63640" y="3284640"/>
            <a:ext cx="5619960" cy="28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916360" y="907920"/>
            <a:ext cx="361944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484F-A723-4FE0-817D-7EACF9035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디더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해상도 감소 없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소에서 화소로의 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류 확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Error Diffusion Dith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패턴 디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atterned Dith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든 화소의 회색도를 최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로 정규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값이 행렬 값보다 크면 화소에 가장 가까운 색으로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작으면 배경색으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6000" y="1484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908000" y="5305320"/>
            <a:ext cx="3372120" cy="15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C890-F019-496F-B173-613D974E1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오류확산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패턴 디더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디더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류확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오류를 전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패턴디더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위적인 잡음 삽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735280" cy="2433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203640" y="2852640"/>
            <a:ext cx="2784240" cy="247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786400" cy="24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289F-1BF5-4D77-8BC1-79B41033E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감마수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점의 밝기는 전자빔의 밝기에 비 선형적으로 반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0..255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28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은 중간 회색도가 아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점 밝기와 회색도와의 관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알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비례상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델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정규화 회색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감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아니고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1.7-2.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58920" y="3747960"/>
            <a:ext cx="3097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00720" y="3765600"/>
            <a:ext cx="3095640" cy="2616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79640" y="1773360"/>
            <a:ext cx="2087640" cy="109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A7F5-957C-41D7-AB7A-BF2FBD0CFF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감마수정의 필요성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프로그래머의 기대치 대 실제 밝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회색도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8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은 실제로 더욱 어둡게 나타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2920" y="2347920"/>
            <a:ext cx="3002040" cy="3002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A992-E61F-44DB-8CDC-457D61CE1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감마수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규화 회색도 값을 미리 변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828684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B5C2-2EE2-4C20-AE93-9CB4BCBED3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IE L*a*b*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웨버의 법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자극이 강할수록 상대적 감도는 낮아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절대 명도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 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지된 명도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Log (I)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에 비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IE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의 문제점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지된 색차가 그림의 거리에 비례하지 않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328932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0345-F722-417E-BED2-617B8FB6E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감마수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아이비엠 피씨 모니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반적으로 하드웨어 감마수정 기능 없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/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= 1/2.5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감마수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시스템 감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소프트웨어 감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매킨토시 모니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/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 = 1/1.4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감마수정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드웨어 감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/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= 1/2.5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감마수정을 원하면 추가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1/1.8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시스템 감마를 가해야 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2303640" cy="204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700360" y="4076640"/>
            <a:ext cx="3781440" cy="17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732720" y="3789360"/>
            <a:ext cx="2232000" cy="19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52C9-1B82-47C5-956F-20DFF4A222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IE L*a*b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IE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변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지 컬러모델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Perceptual Color Mod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인지된 색차가 맵상의 거리에 비례하도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IE XY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IE L*a*b*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의 비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5545440" cy="21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082B-4C96-457E-8A24-D8B5047483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IE L*a*b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E XYZ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를 변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*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명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umina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*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녹색에서 적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b*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청색에서 황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*,b*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합성에 의해 중간색 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E L*a*b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컬러인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f. CIE L*u*v*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컬러모니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9640" y="3068640"/>
            <a:ext cx="4824360" cy="331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24360" y="3357720"/>
            <a:ext cx="2955960" cy="29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2688-D883-41EB-AB4E-205D08A4E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CMS(Color Management Syste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컬러 호환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컬러모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장비특성에 따른 오차를 최소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개별 장비의 컬러모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장비특성을 프로필 형태로 나타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장비에 무관한 컬러공간으로 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5280" y="2997360"/>
            <a:ext cx="496872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E7F0-B35D-48E3-A504-63C97BE3DC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프로필 연결공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일종의 세계어에 해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장비 프로필 정보를 감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RGB(Standard RGB)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IE L*a*b*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으로 사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4716360" cy="143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48360" y="2060640"/>
            <a:ext cx="3516120" cy="42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567B-C941-4C4A-8EB8-02A378B0D9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GB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레임 버퍼 내용이 색을 결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용량에 따라 색 종류가 결정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하이컬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풀컬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트루컬러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3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비트 평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258920" y="3357720"/>
            <a:ext cx="5977080" cy="216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D57A-B374-411E-B1F0-3B3F60F29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인덱스 컬러모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컬러 번역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프레임 버퍼 내용은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U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의 인덱스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실제 컬러는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U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의 우측 칼럼에 의해 결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6696000" cy="242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7BB6-DE47-4708-BDF6-1CB46206FD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컬러 보기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한 화면에 보일 수 있는 컬러는 여전히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가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그 컬러가 어디서 왔는가의 문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38360" y="2000160"/>
            <a:ext cx="58672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0240-83A5-4A7F-9180-52F06D8189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09-27T08:49:36Z</dcterms:modified>
  <cp:revision>305</cp:revision>
  <dc:subject/>
  <dc:title>PowerPoint 프레젠테이션</dc:title>
</cp:coreProperties>
</file>